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769-BFC4-4338-998C-94BA26DE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41F-DF74-4733-BACA-17DE2671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96C-328B-4490-B105-845C16C5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98D-D42D-408B-817A-F53A4532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35B3-5AC3-4E24-9146-F974EBEC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1DB4-F6E5-4785-B31B-9665EA61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A3CB-8336-487D-A1EC-C734C07D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34C5-C41F-4ED9-A2B8-DA4F70EC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8C3E-D047-413B-AA67-2724883A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314F-2D11-4B15-A5FB-39D08FAC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7696-5577-496B-968F-135FE298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146-3C4B-4D72-9D27-6C7664D7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88DF-0DE9-41DF-B79C-E3E26B34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5AA3-058D-4F6D-9545-1AB9DD5C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2C9F-EF59-4F36-97DB-FED48E20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610B-3E62-4E2E-9B68-0CF3AD1A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0F08-14A0-4191-A6E8-6B8CEC86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3C1-4CD2-4006-82DC-2DDFBC9C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E6F-C193-4E65-8253-3FB2511A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F1E-8D82-404E-B78C-D7E34620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3A4-61A3-450A-B57C-F7CBAD3C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69C-A6A3-4B80-9CF9-DA597399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720-2F7F-4A06-B5E1-4212ED7C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31A-B92C-4B30-9D70-11A0C570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FA85-188B-4947-9D55-3DFC3C9FA7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520D-3260-4C9D-9C74-DC35592BE21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MANAGEMENT OF BACTERIAL KIDNEY DISEASE WITH THE “NEW” KIRKEGAARD AND PERRY ANTI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3098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berta Scott, Douglas Munson,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eith John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31760" y="149400"/>
          <a:ext cx="8886960" cy="66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49400"/>
                    <a:ext cx="8886960" cy="66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ELISAantigencapture" descr=""/>
          <p:cNvPicPr/>
          <p:nvPr/>
        </p:nvPicPr>
        <p:blipFill>
          <a:blip r:embed="rId1"/>
          <a:stretch/>
        </p:blipFill>
        <p:spPr>
          <a:xfrm>
            <a:off x="2646360" y="833400"/>
            <a:ext cx="3851280" cy="5189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253760" y="46893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ating 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0600" y="385128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BKD Anti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87080" y="1565280"/>
            <a:ext cx="17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njuga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5480" y="3459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lor Rea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1905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68580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419720" y="3504240"/>
            <a:ext cx="83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4010400" y="456768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7621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0" y="192"/>
                </a:moveTo>
                <a:lnTo>
                  <a:pt x="144" y="288"/>
                </a:lnTo>
                <a:lnTo>
                  <a:pt x="144" y="432"/>
                </a:lnTo>
                <a:lnTo>
                  <a:pt x="240" y="384"/>
                </a:lnTo>
                <a:lnTo>
                  <a:pt x="432" y="384"/>
                </a:lnTo>
                <a:lnTo>
                  <a:pt x="384" y="240"/>
                </a:lnTo>
                <a:lnTo>
                  <a:pt x="432" y="144"/>
                </a:lnTo>
                <a:lnTo>
                  <a:pt x="192" y="0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685800"/>
            <a:ext cx="961920" cy="914400"/>
          </a:xfrm>
          <a:prstGeom prst="star5">
            <a:avLst/>
          </a:prstGeom>
          <a:solidFill>
            <a:srgbClr val="93ea8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N 1996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SUPPLIES OF BATCH 1 ANTIBODIES PRODUCED BY KPL WERE DEPLE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PL PRODUCED THE BATCH 2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S SECOND GROUP OF REAGENTS PRODUCED ELISA OPTICAL DENSITIES THAT WERE INCONSISTENT WITH BATCH 1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KPL ANTIBODY TIMELI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80’S TO 1996:  KPL BATCH 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96 TO 2003:  KPL BATCH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003:  NEW KP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1031760"/>
          <a:ext cx="914400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1760"/>
                    <a:ext cx="91440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362320" y="304920"/>
            <a:ext cx="43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KPL Antibodies:  Good Vs. B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0" y="0"/>
          <a:ext cx="901368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36440" y="68400"/>
          <a:ext cx="8934480" cy="67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68400"/>
                    <a:ext cx="8934480" cy="67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71629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NFHPC LA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68400" y="303120"/>
          <a:ext cx="9001080" cy="61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3120"/>
                    <a:ext cx="900108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DFG EXPECTS A CULLING RATE OF 10% STATEWIDE 2003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TH FORK TRAP:  5.92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WELL TRAP:  12.07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RWATER:  19.84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WTOOTH: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0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WORSHAK NFH:  7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PID RIVER:  13.4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HSIMEROI:  0.9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EWIDE MEAN:  10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CONCLUSIONS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EW (2003) KPL COATING AND CONJUGATED ANTIBODIES ARE EQUIVALENT TO THE FIRST REAGEN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DFG HAS UTILIZED THESE REAGENTS DURING 2003 CHINOOK SPAWN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971800" y="228600"/>
            <a:ext cx="3276720" cy="53352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0" name="BKD%20Fish" descr=""/>
          <p:cNvPicPr/>
          <p:nvPr/>
        </p:nvPicPr>
        <p:blipFill>
          <a:blip r:embed="rId1"/>
          <a:srcRect l="3333" t="0" r="0" b="7515"/>
          <a:stretch/>
        </p:blipFill>
        <p:spPr>
          <a:xfrm>
            <a:off x="0" y="1090440"/>
            <a:ext cx="9059760" cy="5767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75400" y="130320"/>
            <a:ext cx="33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BKD LESIO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280" y="1066680"/>
            <a:ext cx="84582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Thanks and Appreciation to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on Pascho,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orothy Chase, 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agle Laboratory Staff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Kimberly True, USFW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Peterson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Strom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eslie Lindsay, ODFW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fish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4114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PRIOR TO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TOOK A 60 FISH SAMPLE DURING CHINOOK SPAWNING USING DF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D NOT UTILIZE CULLING OR SEGREGATION TO MINIMIZE VERTICAL TRANSMISSION OF BK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PIZOOTICS OF BKD IN JUVENILE CHINOOK SALM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00200" y="0"/>
            <a:ext cx="5867280" cy="609480"/>
          </a:xfrm>
          <a:prstGeom prst="rect">
            <a:avLst/>
          </a:prstGeom>
          <a:solidFill>
            <a:srgbClr val="66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FAT%20of%20BKD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00200" y="0"/>
            <a:ext cx="5918040" cy="581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BKD Fluorescent Antibody Tes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HAS PROVIDED AN INTEGRATED MANAGEMENT PROGRAM TO LIMIT LOSSES TO BK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ISA-BASED CULLING AND SEGREG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SO INTRAPERITONEAL INJECTIONS OF ADULTS WITH ERYTHROMYC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ODOPHOR DISINFECTION OF EGG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HYLACTIC ERYTHROMYCIN MEDICATED FEED TREATMEN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AS LIMITED BKD EPIZOOTICS TO HIGH BKD SEGREGATION GROUP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ID-HATCH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524560" cy="6629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1219320" y="2857680"/>
            <a:ext cx="24588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000" y="2487600"/>
            <a:ext cx="24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808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Idaho Department of Fish and Gam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3840" y="914400"/>
            <a:ext cx="204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Fish Hatcheri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4880" y="4457880"/>
            <a:ext cx="304560" cy="5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3048120"/>
            <a:ext cx="195120" cy="164880"/>
          </a:xfrm>
          <a:custGeom>
            <a:avLst/>
            <a:gdLst/>
            <a:ahLst/>
            <a:rect l="l" t="t" r="r" b="b"/>
            <a:pathLst>
              <a:path w="92" h="139">
                <a:moveTo>
                  <a:pt x="1" y="0"/>
                </a:moveTo>
                <a:cubicBezTo>
                  <a:pt x="2" y="16"/>
                  <a:pt x="0" y="33"/>
                  <a:pt x="5" y="48"/>
                </a:cubicBezTo>
                <a:cubicBezTo>
                  <a:pt x="7" y="54"/>
                  <a:pt x="16" y="54"/>
                  <a:pt x="20" y="58"/>
                </a:cubicBezTo>
                <a:cubicBezTo>
                  <a:pt x="33" y="71"/>
                  <a:pt x="42" y="85"/>
                  <a:pt x="58" y="96"/>
                </a:cubicBezTo>
                <a:cubicBezTo>
                  <a:pt x="67" y="131"/>
                  <a:pt x="63" y="124"/>
                  <a:pt x="92" y="139"/>
                </a:cubicBez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12680" y="93600"/>
          <a:ext cx="8982000" cy="668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93600"/>
                    <a:ext cx="89820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28520" y="112680"/>
          <a:ext cx="878220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12680"/>
                    <a:ext cx="878220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27:50Z</dcterms:created>
  <dc:creator>idfg</dc:creator>
  <dc:description/>
  <dc:language>en-US</dc:language>
  <cp:lastModifiedBy>idfg</cp:lastModifiedBy>
  <dcterms:modified xsi:type="dcterms:W3CDTF">2003-11-26T21:56:18Z</dcterms:modified>
  <cp:revision>19</cp:revision>
  <dc:subject/>
  <dc:title>MANAGEMENT OF BACTERIAL KIDNEY DISEASE WITH THE “NEW” KIRKEGAARD AND PERRY ANTIBODIES</dc:title>
</cp:coreProperties>
</file>